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0FD-98EB-4779-9F8C-0D7F51B3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CD2-FFCE-432E-AF6F-2685E274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26F-B703-4C3F-B656-9595941B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F4C-2A8E-4F9A-9F59-33278888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F5E-26F6-4185-A539-5EA7C0C4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42D-5C9A-4575-8E29-49209AE2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449-471E-4F4F-929E-5282CF67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096-96A1-4DD4-8ADC-C8CD2D8D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C74-CCEE-4FE7-837D-49A90F20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33F-411D-4848-9E68-AC49A293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AEA-C6A0-4951-923F-57371648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706-E649-4664-8B0C-65D4464A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E229-4EE7-49C7-B9B9-B81A4C34B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y Unterhal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reibt eine “Handy” Unterhaltung.  You are only writing one part of the conversation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UNDERLINE TH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hello and introduce yourself 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te (using ein*laden) the person on the other end to go somewhere with you using our “in” vocabulary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 both a time (NOT ON THE HOUR), a day of the week and a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ff camera/phone, the other person will decline the invitation and suggest an alternate time or day of the wee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to that sug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icht or kein in th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form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*hol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t*geh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*fa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goodb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umbers must be written out as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hand thi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 it on google voice 215 690 13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ideas:  Use wo, a date, anrufen vocab or grammar from another chapte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1349280"/>
            <a:ext cx="910260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omplete.  Missing the majority of the requiremen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mewhat incomplete.  Missing many requirements and had many irrelevant detai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rgely complete.  Was missing one or two requirements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rehensibilit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omprehens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nguage is difficult to underst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propriate language.  Clearly conveys the main 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urac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orrect or incomplete sentences.  Usage problems significantly distort mess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y incorrect required elements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stly correct.  All sentences were complete, but there were minor problems with vocabulary or spelling.  (minor errors in required elemen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stly correct.  Very few or no problems with grammar and spelling.  (No errors in required elemen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o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oes not meet requir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ets requirements,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nt above and beyond what was expected in terms of content and creativ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sentation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ject  was sloppy or had crossed out wor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ll organized.  Easily readab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OK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LUENCY – ARE YOU SPEAKING SMOOTHLY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    Uneven, long pauses, incomplete phrases and sentenc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     Some hesitation, but thoughts are complete phrased and intoned proper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     Very few pauses or very little stumbling over words, sounds close to  a native speaker’s language for this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NUNCIATION – ARE YOU PRONOUNCING “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AUF DEUTSC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    Mispronunciation frequently makes it difficult to understan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     Sometimes pronunciation makes it hard to understand. Only a sympathetic listener would understand yo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     Not perfect, but does not interfere with understand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     Intonation really helps understanding of liste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7620120" y="47671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0" y="0"/>
            <a:ext cx="910260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______________________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____/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Introduction____/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____/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ladung/Invitation ______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______/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______/3 (1 for spelling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 of week ___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____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suggestion  ______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 _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ht/kein ____/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ht/kein ____/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holen/mitgehen/anfangen ________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gern ___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bye _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bye _____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924680" y="133524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/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590920" y="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5 690-13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only get one chan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the phone quickly back and f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speaker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a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INE YOUR REQUIREMENTS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9:07:17Z</dcterms:created>
  <dc:creator>udsd</dc:creator>
  <dc:description/>
  <dc:language>en-US</dc:language>
  <cp:lastModifiedBy>tmsadmin</cp:lastModifiedBy>
  <dcterms:modified xsi:type="dcterms:W3CDTF">2013-12-12T15:38:33Z</dcterms:modified>
  <cp:revision>22</cp:revision>
  <dc:subject/>
  <dc:title>Handy Unterhaltung</dc:title>
</cp:coreProperties>
</file>